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5CA-3284-4B15-8A14-660B326B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ACD-626D-47FD-B325-53A301BA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3BC-2524-4C04-936E-409739C3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771-08D8-4060-AD0D-2282ACFE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6480F-92A7-4294-8721-BCF60057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CDCD4-07ED-463B-96E4-0B5BD13C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3EEAB-9BA2-414B-8736-02B81C57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CD8F3-234D-40D0-B775-0A33825B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FD91A-4C03-4B6A-BB67-3E78BCE4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17B86-3578-45EE-9FC0-CCFA2B71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0231D-EBED-4FC6-9A36-B2173674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F21-5FFC-4B8C-A4D6-C67DED40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914FD-85AB-4BBC-8A29-EA97B7E1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22B57-7D2D-4CD0-ACC9-65D09830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DD608-4254-46EB-B4B5-5E1576C3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1E800-A25C-42A4-B8E8-B974D4DD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EC39A-19B7-4757-9B38-0B05ADD1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18D-85F5-4E1D-84AD-950D7CD5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E10-6534-4A4C-BE8B-7493289C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035-01FC-4603-AA89-A96FE3EA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F96-EFBC-443D-A911-0F37D6D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B6C-F019-4F07-82B3-91D9598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0DD-C4B6-4DA0-99AB-08DFC653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95C-FF65-4E18-BCBF-4ED42364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AA1B-3C07-4435-939D-9F26B4FD66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0736-EE8E-4030-9E69-3A4C5B7391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cript MT Bold"/>
              </a:rPr>
              <a:t>            </a:t>
            </a:r>
            <a:r>
              <a:rPr b="0" lang="en-US" sz="6000" spc="-1" strike="noStrike">
                <a:solidFill>
                  <a:srgbClr val="ffffff"/>
                </a:solidFill>
                <a:latin typeface="Script MT Bold"/>
              </a:rPr>
              <a:t>Vocabulary</a:t>
            </a:r>
            <a:r>
              <a:rPr b="0" lang="en-US" sz="6000" spc="-1" strike="noStrike">
                <a:solidFill>
                  <a:srgbClr val="ffffff"/>
                </a:solidFill>
                <a:latin typeface="Script MT Bold"/>
              </a:rPr>
              <a:t>	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Electronic Mail Which allows individuals with an account to send messages to another person with e-mail accou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IR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Internet relay chat was developed in 1988 by Jarkko Oikarinen and allows instant online communicating with someone else who is also online by typing messages back and for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B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Bulletin board service allows a user to participate in a discussion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File transfer protocol is used to rapidly transfer fi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Hypertext transfer protocol is used for handling the transmission of pages between a web server and a web brows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                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el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program used on networks suck as the internet to allow users to Remotely log on to a server on the net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network security system that prevents unauthorized network ac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Goph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One of the first widespread internet browsing serv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Intra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network used by a single organization and only accessible by authorized us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0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04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08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12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7 L 0.075 0.06526 C 0.08 0.07325 0.088 0.07724 0.098 0.07724 C 0.112 0.07724 0.124 0.06659 0.125 0.05061 C 0.124 0.03729 0.112 0.0253 0.098 0.0253 C 0.088 0.0253 0.08 0.03063 0.075 0.03729 L 0.052 0.07458 C 0.042 0.09056 0.023 0.10122 0 0.10255 C -0.023 0.10122 -0.042 0.09056 -0.052 0.07458 L -0.075 0.03729 C -0.08 0.03063 -0.088 0.0253 -0.098 0.0253 C -0.112 0.0253 -0.124 0.03729 -0.125 0.05061 C -0.124 0.06659 -0.112 0.07724 -0.098 0.07724 C -0.088 0.07724 -0.08 0.07325 -0.075 0.06526 L -0.052 0.02797 C -0.042 0.01199 -0.023 0.00133 0 0 Z">
                                      <p:cBhvr>
                                        <p:cTn id="11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7 L 0.075 0.06526 C 0.08 0.07325 0.088 0.07724 0.098 0.07724 C 0.112 0.07724 0.124 0.06659 0.125 0.05061 C 0.124 0.03729 0.112 0.0253 0.098 0.0253 C 0.088 0.0253 0.08 0.03063 0.075 0.03729 L 0.052 0.07458 C 0.042 0.09056 0.023 0.10122 0 0.10255 C -0.023 0.10122 -0.042 0.09056 -0.052 0.07458 L -0.075 0.03729 C -0.08 0.03063 -0.088 0.0253 -0.098 0.0253 C -0.112 0.0253 -0.124 0.03729 -0.125 0.05061 C -0.124 0.06659 -0.112 0.07724 -0.098 0.07724 C -0.088 0.07724 -0.08 0.07325 -0.075 0.06526 L -0.052 0.02797 C -0.042 0.01199 -0.023 0.00133 0 0 Z">
                                      <p:cBhvr>
                                        <p:cTn id="12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7 L 0.075 0.06526 C 0.08 0.07325 0.088 0.07724 0.098 0.07724 C 0.112 0.07724 0.124 0.06659 0.125 0.05061 C 0.124 0.03729 0.112 0.0253 0.098 0.0253 C 0.088 0.0253 0.08 0.03063 0.075 0.03729 L 0.052 0.07458 C 0.042 0.09056 0.023 0.10122 0 0.10255 C -0.023 0.10122 -0.042 0.09056 -0.052 0.07458 L -0.075 0.03729 C -0.08 0.03063 -0.088 0.0253 -0.098 0.0253 C -0.112 0.0253 -0.124 0.03729 -0.125 0.05061 C -0.124 0.06659 -0.112 0.07724 -0.098 0.07724 C -0.088 0.07724 -0.08 0.07325 -0.075 0.06526 L -0.052 0.02797 C -0.042 0.01199 -0.023 0.00133 0 0 Z">
                                      <p:cBhvr>
                                        <p:cTn id="124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7 L 0.075 0.06526 C 0.08 0.07325 0.088 0.07724 0.098 0.07724 C 0.112 0.07724 0.124 0.06659 0.125 0.05061 C 0.124 0.03729 0.112 0.0253 0.098 0.0253 C 0.088 0.0253 0.08 0.03063 0.075 0.03729 L 0.052 0.07458 C 0.042 0.09056 0.023 0.10122 0 0.10255 C -0.023 0.10122 -0.042 0.09056 -0.052 0.07458 L -0.075 0.03729 C -0.08 0.03063 -0.088 0.0253 -0.098 0.0253 C -0.112 0.0253 -0.124 0.03729 -0.125 0.05061 C -0.124 0.06659 -0.112 0.07724 -0.098 0.07724 C -0.088 0.07724 -0.08 0.07325 -0.075 0.06526 L -0.052 0.02797 C -0.042 0.01199 -0.023 0.00133 0 0 Z">
                                      <p:cBhvr>
                                        <p:cTn id="12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             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Extra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n extended intranet that provides various level of access to authorized member of the publ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Online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marketing technique that collects online data about consum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Cook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Small files that contain information about the web sites an individual has visi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Use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collection of servers that offer netnew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              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Bandwid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he amount of data and the speed at which the data can travel over the transmission med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computer that accesses a server t request inform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DS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Digital subscriber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Ether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widely used protocol for Lans that uses a bus or star topology and connects the network devices by twisted- pair wiring coaxial cable or fiber optic c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                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Netiquet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he etiquette that should be followed when using a net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stand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op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he logical arrangement of the nodes on a net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Wireless Netwo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type of network that does not require the use of cables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               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Network interface c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IS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Web S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circuit board that goes into the base unit of a computer or other device in a l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Internet service provider is a company that offers access to the internet for a f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series of related web p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5:30:47Z</dcterms:created>
  <dc:creator>759670</dc:creator>
  <dc:description/>
  <dc:language>en-US</dc:language>
  <cp:lastModifiedBy>759670</cp:lastModifiedBy>
  <dcterms:modified xsi:type="dcterms:W3CDTF">2009-04-20T15:44:52Z</dcterms:modified>
  <cp:revision>3</cp:revision>
  <dc:subject/>
  <dc:title>            Vocabular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